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0C11F-E5B4-4DFA-83C0-E299EC059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FA36C-7B7D-4365-B479-19A52C0382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9DF-1245-426B-8ADF-E302DAB90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267D-C2FC-4AC9-B6EF-8CF6653C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DCD-C691-4E64-86F6-7EC02365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CDE-F9F9-43F8-8CB3-AB3FA8F2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70FF5-6951-4B25-B640-85C3BA76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3BAF-AE48-44E4-A136-6B07B2490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3B22-5E00-447E-BDDA-1AB0DFD6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8898-EBF1-4266-BC13-DC451C19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BBD6-C338-4FE3-A42D-C3779B36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4DD41-8CEF-498C-A02E-EAD0BA07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FC3E2-A679-4C0F-8FCA-24EF4900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2313-026D-4348-9823-A99E8E8B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10A1-5A55-4F24-92F5-A147FF1D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867E-D1E8-437F-A5FC-BF3819B1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41A1B-3616-4D48-9670-2A9FFE7C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E8B6-EBA5-48CA-8D2A-F8CA0AB6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9520-4BD0-4FF0-9F38-DB9E48D67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DBD1E7-E0ED-44EE-88CF-CD0E00BD0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DFE0F2-7033-4E8E-8578-D197F96A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2276CE-D271-4A65-B6FB-002BF82D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EFAFC3-DAB4-43CD-A8F3-E7941EFA3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49A425-FB5F-488C-AE50-DAB542F8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081A5-6873-4FFF-BE6D-A2FEDB294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6BEADB-0EC2-4A47-922A-F35601A3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57798-1BB0-4F41-AC3C-CA6E9CCD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386B1-49CF-4C88-9939-82AB7F94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F0CDFC-1C6D-458F-A601-B3E5AC32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693BCF-FD37-4D97-810C-9E0CA727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8E74DB-498B-4E25-A8CA-1885C536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938282-DD28-4AE8-8078-DF927B36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FB777-636E-43AA-84D9-1AB31F1B5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C22BC-9B3B-4586-A06E-0274EFBC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A1548-C42F-443B-A366-AAB8590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DEA1-DB04-4C2B-955A-C6B4FB3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ED27B-81FB-4F15-872B-F8BECD1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D7151E-A827-4110-8431-C0110387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38C0C-EEDA-4C8B-BDCA-46D38049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8EADF-A9EC-4460-9C82-4BAA65A10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2691F-1E06-4913-BCD2-FB3DA58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C340C-27D4-4E9A-B4BA-63FB5209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36824-3603-4D99-A7F1-0DFFE9FC0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A3E582-DD3E-4A31-877C-E1F9BDAF5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69ED-5578-4C05-B223-9B40B7E3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ED1F-DC6D-4EDD-8E21-1AD1ADDD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39F-FFA7-4861-B7A9-DA6929E9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E280-39D8-4C7E-93C8-E206ABB4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6CF5-1E3E-42C2-B6F9-7A79781B7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392C-83B6-4086-A7D7-157C97D5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0630-51A1-4640-9008-827B72847522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F3C1-A781-4E65-AFD5-B55BED8DA55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23F15-CAB3-49E4-BC5B-2F8EE87A313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4B7DA-C62E-415B-8E69-2A4E802756C4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ticles of Confederation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rst plan of government written by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Continental Congress. Established a national legislature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3581280" cy="1066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Process - 40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did the Coat of Arms activity make you fee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do you think the colonist felt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changes could have been made to make the activity more successful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424456"/>
                </a:solidFill>
                <a:uFillTx/>
                <a:latin typeface="Trebuchet MS"/>
              </a:rPr>
              <a:t>Articles of Confederation</a:t>
            </a:r>
            <a:endParaRPr b="0" lang="en-US" sz="48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6" name="Picture 2" descr="http://www.congressforkids.net/images/artofconfunclesam.jpg"/>
          <p:cNvPicPr/>
          <p:nvPr/>
        </p:nvPicPr>
        <p:blipFill>
          <a:blip r:embed="rId1"/>
          <a:stretch/>
        </p:blipFill>
        <p:spPr>
          <a:xfrm>
            <a:off x="380880" y="2819520"/>
            <a:ext cx="3857760" cy="2314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4" descr="http://american-business.org/uploads/posts/2010-12/1291993160_articles-of-confederation.jpg"/>
          <p:cNvPicPr/>
          <p:nvPr/>
        </p:nvPicPr>
        <p:blipFill>
          <a:blip r:embed="rId2"/>
          <a:stretch/>
        </p:blipFill>
        <p:spPr>
          <a:xfrm>
            <a:off x="5867280" y="2590920"/>
            <a:ext cx="2286000" cy="3676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4"/>
          <p:cNvSpPr/>
          <p:nvPr/>
        </p:nvSpPr>
        <p:spPr>
          <a:xfrm>
            <a:off x="228600" y="50292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Articles of Confeder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rst plan of government written by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tinental Congress. Established a national legislature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22860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ague of Friendship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782- All 13 states ratified constitution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e house legislation &amp; each state had one vo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ws passed by 9/13 stat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2" marL="922320" indent="-218880">
              <a:lnSpc>
                <a:spcPct val="100000"/>
              </a:lnSpc>
              <a:spcBef>
                <a:spcPts val="300"/>
              </a:spcBef>
              <a:buClr>
                <a:srgbClr val="53548a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ticles passed by all states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1" name="Title 1"/>
          <p:cNvSpPr/>
          <p:nvPr/>
        </p:nvSpPr>
        <p:spPr>
          <a:xfrm>
            <a:off x="0" y="41911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7160" indent="-857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Confederate Congre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8380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Strengths of Artic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0" y="2286000"/>
            <a:ext cx="73915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dinance of 1785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plan for surveying western land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drawing state lines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206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rthwest Ordinanc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10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Comic Sans MS"/>
              </a:rPr>
              <a:t>created a plan to adopt new states to the unio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4" name="Picture 2" descr="http://www.absolutemichigan.com/files/mihistory/1686.jpg"/>
          <p:cNvPicPr/>
          <p:nvPr/>
        </p:nvPicPr>
        <p:blipFill>
          <a:blip r:embed="rId1"/>
          <a:stretch/>
        </p:blipFill>
        <p:spPr>
          <a:xfrm>
            <a:off x="6705720" y="914400"/>
            <a:ext cx="2057400" cy="2573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http://wikihistoria.wikispaces.com/file/view/Land_Ordinance_of_1785_sm.jpg"/>
          <p:cNvPicPr/>
          <p:nvPr/>
        </p:nvPicPr>
        <p:blipFill>
          <a:blip r:embed="rId2"/>
          <a:stretch/>
        </p:blipFill>
        <p:spPr>
          <a:xfrm>
            <a:off x="7086600" y="4114800"/>
            <a:ext cx="18302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424456"/>
                </a:solidFill>
                <a:uFillTx/>
                <a:latin typeface="Comic Sans MS"/>
              </a:rPr>
              <a:t>Weaknesses of Article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TextBox 3"/>
          <p:cNvSpPr/>
          <p:nvPr/>
        </p:nvSpPr>
        <p:spPr>
          <a:xfrm>
            <a:off x="0" y="23623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guments between could not be settled due to no national cou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l unity between states was non-exsist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xes could not be collect to provide servic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 -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entral government did not have power to draft an arm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ws were hard to pass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 –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ery state retained sovereignty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ong leadership was not provided because there was n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424456"/>
                </a:solidFill>
                <a:uFillTx/>
                <a:latin typeface="Trebuchet MS"/>
              </a:rPr>
              <a:t>Shay’s Rebellion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809520" y="2362320"/>
            <a:ext cx="533412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rious of events that convinced the American people that change was needed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42445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d to the invitation of delegatesto revise the Article of Confederation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0" name="Picture 5" descr="http://thepublicinterest.freedomblogging.com/files/2009/08/shays-rebellion.jpg"/>
          <p:cNvPicPr/>
          <p:nvPr/>
        </p:nvPicPr>
        <p:blipFill>
          <a:blip r:embed="rId1"/>
          <a:stretch/>
        </p:blipFill>
        <p:spPr>
          <a:xfrm>
            <a:off x="304920" y="220968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424456"/>
                </a:solidFill>
                <a:latin typeface="Comic Sans MS"/>
              </a:rPr>
              <a:t>Spell-out the Articles</a:t>
            </a:r>
            <a:endParaRPr b="0" lang="en-US" sz="6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TextBox 2"/>
          <p:cNvSpPr/>
          <p:nvPr/>
        </p:nvSpPr>
        <p:spPr>
          <a:xfrm>
            <a:off x="228600" y="18288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ust know create a sentence that explains why that feature created problems for our early leaders. Each sentence must begin with one of the letters from the wor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RTICL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3"/>
          <p:cNvSpPr/>
          <p:nvPr/>
        </p:nvSpPr>
        <p:spPr>
          <a:xfrm>
            <a:off x="0" y="3276720"/>
            <a:ext cx="9144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ong leadership was not provided because there was no presi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" descr="Articles Matrix-1.jpg"/>
          <p:cNvPicPr/>
          <p:nvPr/>
        </p:nvPicPr>
        <p:blipFill>
          <a:blip r:embed="rId1"/>
          <a:stretch/>
        </p:blipFill>
        <p:spPr>
          <a:xfrm>
            <a:off x="-6480" y="-6480"/>
            <a:ext cx="9309240" cy="687096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"/>
          <p:cNvSpPr/>
          <p:nvPr/>
        </p:nvSpPr>
        <p:spPr>
          <a:xfrm>
            <a:off x="2209680" y="2133720"/>
            <a:ext cx="304812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d not want to have another powerful executive like King George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3"/>
          <p:cNvSpPr/>
          <p:nvPr/>
        </p:nvSpPr>
        <p:spPr>
          <a:xfrm>
            <a:off x="5562720" y="3352680"/>
            <a:ext cx="358128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icult to get all nine states to agree to a new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ntral gov’t unable to d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4"/>
          <p:cNvSpPr/>
          <p:nvPr/>
        </p:nvSpPr>
        <p:spPr>
          <a:xfrm>
            <a:off x="2133720" y="4648320"/>
            <a:ext cx="3276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ar of being unfairly taxed by central gover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5"/>
          <p:cNvSpPr/>
          <p:nvPr/>
        </p:nvSpPr>
        <p:spPr>
          <a:xfrm>
            <a:off x="5334120" y="5715000"/>
            <a:ext cx="35812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ft country unprotected without a dependable militar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00:03:42Z</dcterms:created>
  <dc:creator>hmhendri</dc:creator>
  <dc:description/>
  <dc:language>en-US</dc:language>
  <cp:lastModifiedBy>hmhendri</cp:lastModifiedBy>
  <dcterms:modified xsi:type="dcterms:W3CDTF">2011-11-02T01:10:22Z</dcterms:modified>
  <cp:revision>7</cp:revision>
  <dc:subject/>
  <dc:title>Slide 1</dc:title>
</cp:coreProperties>
</file>